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055-1A46-4DF2-A184-8B02CEF95A1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EFD2-3956-4DB2-B148-270DC7A08F7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146-B0EC-47DC-94A3-357F3213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E35-BBB7-4568-ADAD-C759D115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4D1B-9AE7-4ECF-AA9C-F3AF88C0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4BB-FECD-4D40-B92B-93E4033F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2E08-D3C0-4675-B9E3-CC6E3881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E376-8C4A-40D1-9148-B977400A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69E1-3C23-4181-A5CD-2222A21B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7C1A-0454-4696-8132-5B9AF83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30A7-A8E5-4E70-8FFA-26A0BB0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0020-0196-4A87-8523-BDB30E71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C584-035A-4CE8-B181-3200237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BA51-9057-47B3-9C2C-12B6CE30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E727-B3B6-4935-B8A2-FD2B3240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062B-7D61-4FCF-A367-475C2B89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A8A2-FC18-45C4-BDF0-EB855094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E666-3D75-41D0-916C-004A25AF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78D3-AAF4-44DA-AA1A-5A08E243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53758-A44A-4311-A6B5-51310F22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B05B-6CFF-4758-B77E-409A1D4C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8B438-2074-4318-9163-372AFDA2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13505-3A22-4775-B008-717667A8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48C83-1C5C-4411-BF24-802571D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533C-AB6E-4E0C-B89C-5158FAF2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8DF96-26ED-484A-B3C0-DE45D5C9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64F8C-74D8-4557-A111-5B178F0F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9AE21-E1B9-4BE2-929D-BDBED693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F510-17DD-44AF-BD47-C4008EF4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566B-D761-4ECB-A6AA-ED4FC18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591A5-2681-426B-92BE-E57E94ED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61E76-091F-4E9E-B36D-DED7BB369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675B-4321-4833-BDD9-B345FD9F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3814C-A4B8-40BD-8C36-7F63F66F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735A-D63E-4A57-85F1-A62C44CF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83C8-4F24-4D4E-87B3-B28D458F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9FC2F-ACC3-4C79-982A-62CB4569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02C6-972C-482B-9B1B-F5282097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9701B-D349-430F-AD77-5D9C36B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AD893-9EFA-442D-BEA8-BF1D34D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127F-C2F2-4745-822E-C26E2BF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2348F-7819-49C0-905B-AF42DA74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2926-2E7B-4C03-875B-09EF6EEB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1EE0-07BB-4E3F-9738-D02C815E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5F6D-1AFE-45B4-8A3B-3AFB47F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A2336-DE2C-4ABE-B1E0-C4FC5984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01C-D5B7-48E7-85D6-0743667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2F14-DBD1-4CF1-B195-95797624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5D441-7BE0-40AC-9706-7C43546F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860DC-1C5B-45DC-BFAB-9B527839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2573F-B432-4983-B24D-A444DAD2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F6D96-095E-49E5-B76D-F6CDA119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96D53-CD0F-4F2E-A4EB-0D6CD047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15004-88F2-4110-BCD8-A56064DE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2B167-07CF-4C8D-9A48-2127F3D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EAD9-6A65-47EA-8556-350ECA96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0E7FE-38E1-4956-AD55-D56117F2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AC9-C8DF-4D7F-93E4-D5F4946A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63AF4-7FF9-4705-B382-396E0B1F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6160E-DBD3-4F5D-A64A-39FEF2F9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59039-DF21-487A-A3EF-E933BF70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60D55-52CF-4BC1-8780-3A312BF3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16C8-D83E-4BF9-AF90-799BA246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DE0F7-A504-4DAD-B488-0FD3A83D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2E295-1DBA-4682-9EF0-4ADF3537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1B2B-A70A-445D-A30D-A6C5272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53132-AD9A-4C65-AE25-594E61C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8DDE-BA58-45E3-983E-0F99D5FC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8A1C-045C-4753-9A49-3FC69D0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F9E64-71BB-4381-AF88-246CD849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F25C3-D9C1-41C7-BACD-D965D27D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2740C-ABC0-4CCC-9B38-60CD266B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72C90-804E-43D1-93C3-82550B424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A8CAB3-6B12-4451-91C4-43DD5D06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D655-2115-44E8-8414-0BFA94BD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B4840-95C5-4396-8EDB-B662EC8F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CE47-8772-43C5-91D0-E49A035F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B0C8D-5BF2-475C-B51F-8ECFDE00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64D1-1D01-437B-9752-6A47983A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6C66-07FE-468B-A9E5-6EEF46CE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E0FAE-DA41-4D75-AC07-D4167D78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1AA51-BD3E-43C1-A607-41421138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EE897-9E0A-49D6-A84B-40B3D13C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7EAA00-D380-4408-B4D9-B5EA312A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AA4E5-6B57-4CB6-B53C-BCFAB670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01E48-0132-4FCE-8674-FD6222EA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96F6D-8241-4057-BA37-55D4A3A7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5CC8-8D5F-451B-BF0C-FF8FD831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7C561-BA3C-470B-9128-E4BB86ED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7E107-6B4A-4E94-A2E0-812E9F87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46E-424D-48CC-B6D3-E88D2E5C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586D-69D1-4854-89A2-46898E3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45036-D671-4CA4-9B57-2FF3E435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C99B-970F-49A7-9BFF-1122C70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406E-F3D6-46BF-9C25-401BD8CD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A045E-C9F2-4209-8395-360E4419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937F-3D56-4A88-8A9C-A70FA70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5A5AA-9DE3-471B-B1E9-CDD6D99E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A00D-65DD-44AD-AC75-B930AD8E4901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3BB8-A059-4B5D-83B6-1D06C697BDA2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3F4A-55A0-45B6-B576-22D3A4135BB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FA3D-0B67-4BF7-B1A9-446CEE4E6DE9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4D9A-B32B-4D05-97AF-7501AD1A997B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5DA-157A-47B6-A14E-E890E7F5BE70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5EC3-B0A1-470E-98B8-F02CBAFF80A8}" type="slidenum">
              <a:rPr b="0" lang="en-CA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BB03-A887-442E-AD5A-195C49F144FD}" type="slidenum">
              <a:rPr b="0" lang="en-CA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1360"/>
            <a:ext cx="8047080" cy="1219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10920" y="1196640"/>
            <a:ext cx="7705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Moving a substance from a lower to a higher concentrati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Root hairs 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take in minerals through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Active Uptake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The concentration of minerals is higher in the root hair than in the soi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Needs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energy</a:t>
            </a: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 to uptake against the concentration gradi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Lucida Sans Unicode"/>
              </a:rPr>
              <a:t>Energy is provided by glucose from photosynthesis in </a:t>
            </a:r>
            <a:r>
              <a:rPr b="1" lang="en-CA" sz="2400" spc="-1" strike="noStrike">
                <a:solidFill>
                  <a:srgbClr val="000000"/>
                </a:solidFill>
                <a:latin typeface="Lucida Sans Unicode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2" descr=""/>
          <p:cNvPicPr/>
          <p:nvPr/>
        </p:nvPicPr>
        <p:blipFill>
          <a:blip r:embed="rId1"/>
          <a:stretch/>
        </p:blipFill>
        <p:spPr>
          <a:xfrm>
            <a:off x="457200" y="-103320"/>
            <a:ext cx="82296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1.Flower: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ttracts insects in order to carry pollen and allows pollination and reproductio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2. Leaf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Produces food (glucose) made through photosynthesi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3. Stem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) holds the plant uprigh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b) Water and food travels up and down it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4. Root Hair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Provide large surface area to absorb water and (mineral) ions from the soi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Lucida Sans Unicode"/>
              </a:rPr>
              <a:t>5. Root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: 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a) Anchors plant to ground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b) takes in water and some mineral ions from soi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CA" sz="1900" spc="-1" strike="noStrike">
                <a:solidFill>
                  <a:srgbClr val="000000"/>
                </a:solidFill>
                <a:latin typeface="Lucida Sans Unicode"/>
              </a:rPr>
              <a:t>**Food does not come through the roots**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7200" y="-66600"/>
            <a:ext cx="8229600" cy="11570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0" y="944640"/>
            <a:ext cx="874872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8864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Palisade Layer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Have chloroplasts which have chlorophyll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Where photosynthesis happen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Lots of air space in the palisade and spongy layer to allow CO2 to reach the palisade cell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Epidermis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- A wax that limits water loss (especially the top of the leaf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Stomata: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Little holes on the lower/under surface of the leaf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y allow CO2 in and water out:  where transpiration occur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Guard Cells: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They control water loss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When water is scarce, they become flaccid (soft) and change shape, which closes the stomatal pore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O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5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8296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O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1008000" y="1052640"/>
            <a:ext cx="6085080" cy="40557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-152280" y="133200"/>
            <a:ext cx="9120240" cy="8049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250560" y="691920"/>
            <a:ext cx="889308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lants have two separate tubes: 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Xylem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nd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Phlo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hey go to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every part 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 the plant.  Usually </a:t>
            </a:r>
            <a:r>
              <a:rPr b="1" lang="en-CA" sz="2700" spc="-1" strike="noStrike">
                <a:solidFill>
                  <a:srgbClr val="000000"/>
                </a:solidFill>
                <a:latin typeface="Lucida Sans Unicode"/>
              </a:rPr>
              <a:t>beside</a:t>
            </a: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 each oth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2"/>
          <a:stretch/>
        </p:blipFill>
        <p:spPr>
          <a:xfrm>
            <a:off x="747720" y="2565360"/>
            <a:ext cx="7632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2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1181160" y="1557360"/>
            <a:ext cx="65404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2 Título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406224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2:03:51Z</dcterms:created>
  <dc:creator>Laura</dc:creator>
  <dc:description/>
  <dc:language>en-US</dc:language>
  <cp:lastModifiedBy>USUARIO</cp:lastModifiedBy>
  <dcterms:modified xsi:type="dcterms:W3CDTF">2012-11-30T17:52:29Z</dcterms:modified>
  <cp:revision>10</cp:revision>
  <dc:subject/>
  <dc:title>Slide 1</dc:title>
</cp:coreProperties>
</file>